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9CE-875C-4BE8-AE4E-B0CE8AAC8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22ED-A497-4972-9EAB-F476E110A5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B8D-9B8C-4848-9D80-700D922C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DA9-1830-410C-AE92-C7B158D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819-A1C0-4641-900E-E9A2589B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67B-C18E-444E-9B8F-62BE7B1E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4222-6AA2-466F-AF6A-C0BD1FEA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1DBEB-1859-49AC-9BB5-1B4647B7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8DF1A-ABA2-417F-B088-553D4A1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87095-1A5A-4185-A300-4D61FCC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A11A-0E44-4088-923A-8E8E402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C4871-AB15-4C87-91F4-E3FE29F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57FF8-A29A-4618-8C0B-4EEF66F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7C5-56BA-4BAF-A50B-66A98EB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4D07C-A2C0-41B1-89AA-F97959A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839B-9B32-4894-8F24-289A127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6E039-6100-4B90-80EC-4230677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BD55-81EF-42C8-95AB-4DE81302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16755-A85A-4BF5-A665-B55D364A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AD2-2C0C-45F0-BEFD-814E07AA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532-29C1-4B2A-89BE-6E40512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451-278F-4854-BF4D-A83407C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4C1-47AD-4208-BE62-EE3DB01D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81F-6CC1-497E-8379-C823E69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588-3D14-4220-A0DF-6D46291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3ED-D1AC-463A-A98D-38D2DC8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3B96-894B-4BBF-B7FC-35D4D80C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B1F-7361-406C-9990-1BB4159A6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venilni 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 (reumatoidni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iopatski artritis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 JI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f. dr Jasmina Kneže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ntermitentna temperatura &gt;39 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ritematoznu makuloznu ospu na trupu i ekstremite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eli se u 2 ti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istemski JIA sa sistemskim manifestacijama bez artritisa (do 5. god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istemski JIA sa artritisom (starija deca ili bolest duže traj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linička slika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lest može imati monocikličan tok (40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licikličan tok i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onično perzistentan tok (do5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hvaćenost zgloba kuka je loš prognostički z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Laboratorijski nalaz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krocitna an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ukocitoza sa netrofilij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ombocit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višena SE i CR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poalbumin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višen nivo ferit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nekad hipergamaglobulin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Komplika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stemska osteopo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omene na zglobov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stoj r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milopi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ndrom aktivacije makrofaga (M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Sindrom aktivacije makrofa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jteža komlik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kstenzivni hematofagocitni poremeća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10% obolel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suficijencija jetre i poremećaji C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Kriterijumi za dijagnozu MAS-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Septična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urpura i krvarenja na mukoz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infadenopatija i organomegal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ad SE i Le&lt;4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nemija, trombocitopen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ipofibrinogenemija &lt;2,5 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ovišeni LDH, ALT,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ahoma"/>
              </a:rPr>
              <a:t>Dislipidemija, hemofagocitoza u KS –nije neophod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Oligoartikularni obl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više 4 zglo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simetrič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liki zglobovi-koleno, skočni,lakto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onoart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ligoartritis prelazi u poliart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 6. godine-devojč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gnoza d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99"/>
                </a:solidFill>
                <a:latin typeface="Tahoma"/>
              </a:rPr>
              <a:t>Uveitis-sudovnjača-iridociklitis (prednji deo –ir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ntrola oftalmologa – stal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češći- 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ametri inflamacije su negativ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odela oligoartikularnog obl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rzstentni oligoartritis-uvek samo 4 zgl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ošireni oligoartritis-posle 6 m zahvaćeno je &gt; od 5 zglob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Perzistentni oligartr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vijčice posle 1. go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NA + u 60-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sok rizik za razvoj hroničnog iridocikl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lena i skočni zglobo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traartikularna terapija steroidima+R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Prošireni oligoartr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dnako kod oba p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elazi u poliartritis posle 6 mese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či na poliartikularni oblik RF –negat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vde je titar ANA češće pozit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ći rizik za pojavu hroničnog uve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ronična inflamatorna obolj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eterogena gru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eprekidna upala jednog ili više zglobova duže od 6 nede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ol, otok, ograničena pokretljiv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diopatski-ne zna se uzrok-autoimunska bol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Juvenilni –javlja se pre 16. go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liartikularni obl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vih 6 meseci atritis na 5 ili više zglob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šti znaci nisu prisut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ve podgru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F pozitivni-retko 5% ( mali zglobovi, češće devojč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posle 10 god-teži obli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F negativni 15-20% (bilo koji uzras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Poliartikularni RF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ronični artriis 5 ili više zglobo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6 meseci trajanja bole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2 uzorka seruma u razmaku od 3 meseca RF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20% , podjednako oba po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ajčešće devojčice u adolescencij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utarnja ukočenost i b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učje, tarzus, metakarpofalingealni zglobovi, interfalalangeal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emporomandibularni zgl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2 tipa 1. sličan proširenom oligoartikularnom i 2 simetričan artritis malih zglobova ANA i RF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Poliartikulrni RF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5% pacijen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onični artritis 5 ili više zglobova u prvih 6 mese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2 uzorna u razmaku od 3 meseca RF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sključivo devojčice u adolescen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metrična zahvaćenost zglob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trtritis ruč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formiteti-najčešći i najtež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Poliartikulrni RF+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umatski čvorići-30%-na mestima pritiska-olekranon, tetive fleksora, Ahilova tetiva, dlanovi i taba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vrsti, pokretni, bezbolni –faktor loše progn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že se javiti i vaskulitis,valvularne mane, plućna fibzoza, perzistentna neutropenija i splenomegal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ENTENZOPATIJE I ARTROPAT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ntenzitis sa artritisom-juvenilna forma ankilozirajućeg spondil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čaci preko 6 godina HLAB 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cidivirajući akutni prednji uve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sok CRP, SE ali RF,ANA negativ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va manifestacija oligoartritis velikih perifernih zglob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tenzitis-bolovi u tetivama i pripo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steroidi  i sulfasalaz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sorijazni artritis-2-15%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rtritis-oligoartikularni-ANA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+psorija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a pola-predškolski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ečataste promene koje se ljušte-laktovi i 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thode artritisu ili pos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+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LA-B27 i kod srod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veitis 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totreksat i biološka tera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DIJAGNOSTIČKE PROCED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jvažniji klinički preg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ma spcifične laboratorijske anal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zikalni preg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Bol otok, ograničena pokret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venilo nije karakteristič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ko topao zgl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utarnja ukoče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Laboratorijske anal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F autoantitelo –poliartikularni obl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-oligoartritis-iridocik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LA B27 –ćelijski marker, obeleživač- 80% (normalno 5-8%)-kod oligoartritis sa entenzitis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KS-leukocitoza , trombocitoza  (IL6 na kosnu sr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nzimi je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r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erit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lkalna fosfaataza, ALT, AST, LD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Intrartikulrna punk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jagnostički i terpijski znač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sključiti septič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klanja višak sinovijske t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plikacija stero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Biološki leko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munski mehanizmi nastank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kovi koji blokiraju dejstva citok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TNF, IL-1, IL-6, signalnih molekula T i B linfoc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difikuju biološke mehaniz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čestalos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tka ali najčešća hronična bolest detinj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valenca 80-90 od 100 000 de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ešće devojčice od deč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ečenje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SAILosnova le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teroidi-sistemske manifest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totreksat-perzistent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rtikosteroidi 2 mg/kg, i/v metilprednizo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ološki lekovi-unapredili progn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lokatori IL-sistemske manifest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lokatori TNF-perzistent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Leče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ma kauzalne terapije-Lekovi i rehabili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steroidni antiinflamatorni lekovi-antireumatici-Ibuprofen, Naproks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jekciju u zglobove-glikokortiko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ekovi koji menjaju tok bolesto (LMB) Metotreksat 1x nedeljno male doze + folna kiselin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ekovi koji blokiraju dejstvo TNF-anti TNF lekovi + metotreksat-sku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ikokortikoidi –sistemski-kapi kod iridociklit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rtopedska operacija-zglobna proteza, kontrak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habilitacija- long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NSA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25-30% oligoartikularnih oblika odreagu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rvih 4-6 nedelja se da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 utiču na ishod bol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odnošljivost dobra –gastritis ili duodenitis, pseudoporfirija kod naproks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ortikosteroidi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porna febri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roz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/v pulsne doze metilprednizolona 30 mg/kg/dan max 1 g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traartikularno davanje-oligoartikulrni oblik ili kod perzistentnog artr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Lekovi koji modifikuju bol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tostatici i imunosupres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etotreksat zlatni standard za hronične artrit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10-20mg/m 1x nedeljno oralno ili s/c ili i/m+folna kise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Biološki leko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Blokiraju dejstva citok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Neželjeni efekti leko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steroidni antireumatici-posle obroka, hepat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totreksat-kks, hepatogram, u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i TNF-ozbiljne infekcije, dobro se pod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likokortikoidi-osteoporoza, mali rast, gojaz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užina lečenja i prognoz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iše god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ftalmološki pregled na 3 mese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miloidoza bubrega –komplik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F+ poliartikularni-najteže oštećenje zglob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F- ¼ trajna oštećenja zglob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ligoartikularni-dobra progn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ridociklitis – ako se leči prognoza d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RS" sz="4400" spc="-1" strike="noStrike">
                <a:solidFill>
                  <a:srgbClr val="ffffff"/>
                </a:solidFill>
                <a:latin typeface="Tahoma"/>
              </a:rPr>
              <a:t>rognoz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iše od 50% bolest se nastavlja posle adolescen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nesposobljenost 30-4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ahtevaju ortopedske intervencije i veštačke zglob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a li je nasledn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faktorska –mnogi faktori je pokr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-virusi  (parvovirus B19, EBV, campilobacter, salmone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oji genetska sklonost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-HLA-DR4-poli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DR8-oligo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Kako se postavlja dijagnoz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 navršene 16. go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pala zgloba traje duže od 6 nedelja-(isključiti artritis koji prati virusnu infekciju i druge bolesti sa upalom zglobov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Šta se dešava u zgloboivim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inovijska membrana –unutrašnji omotač zgloba-</a:t>
            </a: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zadebljav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i povećava se količina </a:t>
            </a: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zglobne tečnosti-otok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zgloba i mekih tkiva, bol na dodir i pokret, ograničena pokret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utarnja ukoče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algičan pološaj-između fleksije i ekstenz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alja progresija ako se ne leč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Sinovija zadebljav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sinovijski panus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oštećenje zglobne hrkavic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i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ubitak mišične mas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atrofij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, istezanje ili skraćenje mišića- </a:t>
            </a:r>
            <a:r>
              <a:rPr b="0" lang="sr-Latn-CS" sz="3200" spc="-1" strike="noStrike">
                <a:solidFill>
                  <a:srgbClr val="ff3399"/>
                </a:solidFill>
                <a:latin typeface="Tahoma"/>
              </a:rPr>
              <a:t>deformite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dela J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istemski artritis (sistemski obli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artritis reumatoid faktor (FR) negat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artritis RF pozit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ligoartritis-najviše 4 zgl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ntenzitis sa artritis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sorijaz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klasifikova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istemski oblik 10%-M Sti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1-5 god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rt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isoka temperatura-&gt;38, traje 2 nedel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ledoružičasta os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ol u mišić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epatomegali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lenomegali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Linfadenopatija-generalizov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erikard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leurit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jlošija prognoza 2-4% smrtni is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04:24Z</dcterms:created>
  <dc:creator>Jasmina Knezevic</dc:creator>
  <dc:description/>
  <dc:language>en-US</dc:language>
  <cp:lastModifiedBy>Jasmina Knezevic</cp:lastModifiedBy>
  <dcterms:modified xsi:type="dcterms:W3CDTF">2016-05-30T07:11:18Z</dcterms:modified>
  <cp:revision>43</cp:revision>
  <dc:subject/>
  <dc:title>Juvenilni idiopatski artritis</dc:title>
</cp:coreProperties>
</file>