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B84E-E751-4373-93E4-0239A14B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1B8-57E2-424D-9FBC-E0E1968A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2F94-504D-4E6D-AAC8-83564352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DA1-C2B4-462F-A3FD-B681B771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803D1-FBB9-4461-A905-0B2310AB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5BD3B-BA9C-417B-B309-05019D92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A87B1-23BE-4355-A568-84D755BF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A1BF2-8F1F-4C88-81D5-E10D9C15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FBD24-D4C2-4317-BAB5-92B6A84A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E6980-24A5-4EDA-8D80-3C712B4F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42415-9672-4D4D-9CFA-3B0C8C17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F98D-CD3B-4BB0-AD79-4DB85962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F10CA-FACA-4ABB-9205-38B1C075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CAC9C-65FC-45ED-ABD0-C1FA8AC0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E65EF-A209-4DDC-A7BF-6856F806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218EF-45B9-4BE0-9967-F05202B4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74491-57CA-4AAC-A55E-5DFBC08A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C8C3-49B4-491E-8ED0-A264C8A0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58F-C795-4147-9213-2001CBC3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A5F-A423-48F3-A54A-E8FA1144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D713-D475-4621-B8FC-0F89E818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2C2-9B7C-4F6E-ACA2-95A018B2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7D36-1022-4169-BC48-A23E985E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C71E-AFC9-4E9E-B31B-E820BCE6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79F2-3A5C-4627-95D6-CB7A01FA66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D1F0-7CDC-4839-85DC-2FF4151B7E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590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REUMATSKA GRO</a:t>
            </a:r>
            <a:r>
              <a:rPr b="0" lang="sr-Latn-CS" sz="5400" spc="-1" strike="noStrike">
                <a:solidFill>
                  <a:srgbClr val="e3e3ff"/>
                </a:solidFill>
                <a:latin typeface="Arial"/>
              </a:rPr>
              <a:t>ZNIC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f. dr Jasmina Knežev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IMG_0543"/>
          <p:cNvPicPr/>
          <p:nvPr/>
        </p:nvPicPr>
        <p:blipFill>
          <a:blip r:embed="rId1"/>
          <a:stretch/>
        </p:blipFill>
        <p:spPr>
          <a:xfrm>
            <a:off x="5486400" y="304920"/>
            <a:ext cx="3429000" cy="24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OKOLIN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naselje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oša zdravstvena zašt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ezonske varijacije –zima i rano proleć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Patogenez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irektno dejstvo streptokoka nije dokaz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ejstvo putem toksin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treptolizin O i S, proteokinaza-deluju direktno toksično na s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oksini deluju na lizozome miofibrila-denaturacija prote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olazi do senzibilizacije protiv izmenjenih vlastitih mioc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3.   Unakrsna reaktivna: Ag-bakterija i ćelije miokarda imaju zajedničke Ag determin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Patofiziologi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paljenski proces vezivnog tk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ekro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filtracija linfocitima i plazmocit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Fibrozna prolifer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ranulomi- Achofovi čvorić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žilj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03400" y="228600"/>
            <a:ext cx="693720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logy of Myocardium in Rheumatic Cardit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X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5" name="Picture 3" descr="untitled2"/>
          <p:cNvPicPr/>
          <p:nvPr/>
        </p:nvPicPr>
        <p:blipFill>
          <a:blip r:embed="rId1"/>
          <a:stretch/>
        </p:blipFill>
        <p:spPr>
          <a:xfrm>
            <a:off x="1066680" y="1600200"/>
            <a:ext cx="7086600" cy="45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KLINIČKE MANIFESTACIJ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ultisistemska: srce, zglobove, CNS i kož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atentni period 1-3 nedelje (sv 18d)-isto traje i kod recid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četak akutni (artritis ili karditis) ili skriven (oblik kardita ili hore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ARTHRIT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70-75% RANA MANIFESTACIJA 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VELIKI ZGLOBOVI-više bolni nego oteče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MIGRATORNI 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BOL, OTOK, OGRAN. POKRET., CRVENILO, TOPA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AJINTENZIVNIJI U 12-24 h , PERZISTIRA 2-6 DA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SPIRINSKI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BOL IZR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Ž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ENIJI KOD VEĆE DE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jedan zglob-reaktivni (NS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CARDIT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 inicijalnom ataku -40-50%-najteži obl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ancarditis-mitralna regurgitacija 98%, AR 2%-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kasnije steno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simptomatski -2 n posle artr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lađi pacijenti-skriveni carditis-50% RHD bez bolova u zglobov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ahikardija i šum  ili SI-zbog valv . lez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ilent carditis –subklinički-e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Cardit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olosistolni šum M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ijastolni šum AI-kasnije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led, dispnoičan, tahikardič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ukli tonovi, ritam galopa, aritm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naci SI: znojenje, gušenje, anoreksija, kašalj, stenocardija, palpitacije, puko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CHOREA MINOR SYDENHAI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osledica meningoencefaliti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1/3 pacijenata sa 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Latentni period od 2 do 9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raje 1-3 meseca može i preko 2 god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a carditisom ili bez u 35% sl.-RHD u 2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Češće kod devojč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agli, slabi nekoordinisani pokreti ekstremiteta i grimase na lic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ajteža forma-ataks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Javljaju se i bol u trbuhu, epistaksa, pneumon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NODULI SUBCUTANEI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asna manifest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osle nekoliko nedelja ili meseci od napa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Uvek teška for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krugli čvorići, bezbolni, čvrsti, 3-5 mm, spojeni sa zglobnom kapsul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Ekstenzorna strana zglobov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Bolje se osete nego v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sčezavaju posle par d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232680" y="2322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Object 5"/>
          <p:cNvGraphicFramePr/>
          <p:nvPr/>
        </p:nvGraphicFramePr>
        <p:xfrm>
          <a:off x="4419720" y="1828800"/>
          <a:ext cx="4267080" cy="37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828800"/>
                    <a:ext cx="426708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e3e3ff"/>
                </a:solidFill>
                <a:latin typeface="Arial"/>
              </a:rPr>
              <a:t>Uvo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sko obolje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le streptokoknog faringit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imuni odgovor-patogeneza još nepoz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idemija 1950 (3% odraslih sa neadekvatno lečenim faringitisom, 0,3% kod de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da samo 0,1% nelečenih farnigit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ce u I ataku zahvaćeno kod 30-70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-90% u sledećem atak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ERYTHEMA MARGINATU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Javljaju se u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5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rolazne lez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Ružičaste makule -postaju asimetrični ovalni prstenovi sa svetlom sredinom i izraženom ružičastom ivi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ajviše na trupu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ekstremiteti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e svrb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ojačava se na toplo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66ff33"/>
                </a:solidFill>
                <a:latin typeface="Arial"/>
              </a:rPr>
              <a:t>Uvek udružen sa hroničnim karditis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66ff33"/>
                </a:solidFill>
                <a:latin typeface="Arial"/>
              </a:rPr>
              <a:t>Sepsa, alergija na lekove, glomerulonefr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308640" y="1712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6095880" y="1143000"/>
          <a:ext cx="2276640" cy="27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143000"/>
                    <a:ext cx="227664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Picture 8" descr="http://img.medscape.com/pi/emed/ckb/pediatrics_general/1331341-1331372-1007946-1782449.jpg"/>
          <p:cNvPicPr/>
          <p:nvPr/>
        </p:nvPicPr>
        <p:blipFill>
          <a:blip r:embed="rId3"/>
          <a:stretch/>
        </p:blipFill>
        <p:spPr>
          <a:xfrm>
            <a:off x="4648320" y="3886200"/>
            <a:ext cx="41148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e3e3ff"/>
                </a:solidFill>
                <a:latin typeface="Arial"/>
              </a:rPr>
              <a:t>DRUGE MANIFESTACIJE-MINOR ZNAC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VIŠENA TEMPERATURA 38/40 , blaga kod kardita i odsutna kod ho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RTRALGIJA –nekoliko dana ili nedel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LEDI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OREKS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UBITAK U 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LABORATORIJSKI NALAZI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E POSTOJI SPECIFIČNI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IJAGNOSTIČKI TEST ZA 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VIDENCIJA O STREPTOKOKNOJ INFEKCI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ESTOVI SISTEMSKE INFLAM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ESTOVI ZA CARD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e3e3ff"/>
                </a:solidFill>
                <a:latin typeface="Arial"/>
              </a:rPr>
              <a:t>EVIDENCIJA O STREPTOKOKNOJ INFEKCIJ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BRIS ŽDRELA- samo 20% briseva je pozitiv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BRZA DETEKCIJA ANTIGENA specifičnost je 95% ali ne i senzitivnost. Ekvivalent +k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SO-At- prethodna infekcija - (normalno 200 j/ml) javlja se za 7-10 dana, max 2-3 n(1-5 n), plato 3-6m i pad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20% SA RG ASO JE NORMALAN-ponoviti za 2-4 nedelje (anti-DNaza B (najduže se zadržava) i anti-hijaluronidaz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e3e3ff"/>
                </a:solidFill>
                <a:latin typeface="Arial"/>
              </a:rPr>
              <a:t>TESTOVI SISTEMSKE INFLAMACIJ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E u prvom satu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RP-poviš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nem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Le poviše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Fibrinogen poviš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lfa 2 globul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nti srce At-tropomioz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B ćelijski marker D8/17 imunoflorescencija-rizik za 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4708440" y="2246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4917240" y="1905120"/>
            <a:ext cx="4219200" cy="180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est imunofluorescencij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za dokazi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nti srce At u seru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amo 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karditi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4701240" y="4267080"/>
            <a:ext cx="4440240" cy="5205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EKG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rodužen PQ inter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e3e3ff"/>
                </a:solidFill>
                <a:latin typeface="Arial"/>
              </a:rPr>
              <a:t>TESTOVI ZA POSTOJEĆI KARDITI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EKG-produžen PR u 28-40% s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R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oppler-subkliničke for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77548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080040" y="23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Object 9"/>
          <p:cNvGraphicFramePr/>
          <p:nvPr/>
        </p:nvGraphicFramePr>
        <p:xfrm>
          <a:off x="4267080" y="2286000"/>
          <a:ext cx="464832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0"/>
                    <a:ext cx="464832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DOPPLER 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304920" y="1447920"/>
          <a:ext cx="27558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27558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7"/>
          <p:cNvSpPr/>
          <p:nvPr/>
        </p:nvSpPr>
        <p:spPr>
          <a:xfrm>
            <a:off x="5470560" y="2322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Object 8"/>
          <p:cNvGraphicFramePr/>
          <p:nvPr/>
        </p:nvGraphicFramePr>
        <p:xfrm>
          <a:off x="4255920" y="1295280"/>
          <a:ext cx="357372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55920" y="1295280"/>
                    <a:ext cx="35737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TextBox 7"/>
          <p:cNvSpPr/>
          <p:nvPr/>
        </p:nvSpPr>
        <p:spPr>
          <a:xfrm>
            <a:off x="3911400" y="5105520"/>
            <a:ext cx="41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ularna dilatacija M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ongirana horda prednjeg velu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erolateralni pravac mitralnog dž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atacija LV-  normalno 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Object 4"/>
          <p:cNvGraphicFramePr/>
          <p:nvPr/>
        </p:nvGraphicFramePr>
        <p:xfrm>
          <a:off x="0" y="4680"/>
          <a:ext cx="9144000" cy="685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3320"/>
                  </a:xfrm>
                  <a:prstGeom prst="rect">
                    <a:avLst/>
                  </a:prstGeom>
                  <a:ln cap="sq" w="1260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e3e3ff"/>
                </a:solidFill>
                <a:latin typeface="Arial"/>
              </a:rPr>
              <a:t>IZUZECI OD JONESOVIH KRITERIJUM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CHOREA-javlja se kasnije i m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ž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e biti jedina manifest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TIH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indolentan)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CARDITIS –MESEC DANA POSLE  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Diferencijalna dijagnoz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J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kutna leuko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iksom pretko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istemske bolesti vezivnog tk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emofil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irusni miokard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M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R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indrom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2-3 n nakon infekcije GRP –BHS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ve promene prolaz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sim na src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rajna oštećenj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klonos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IDIV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ereditet, siromaštvo, pothranjenost, nedovoljno lečenje primarne bole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Treatm</a:t>
            </a:r>
            <a:r>
              <a:rPr b="0" lang="sr-Latn-CS" sz="6000" spc="-1" strike="noStrike">
                <a:solidFill>
                  <a:srgbClr val="e3e3ff"/>
                </a:solidFill>
                <a:latin typeface="Arial"/>
              </a:rPr>
              <a:t>an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Step I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rimar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a prevencij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radi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acij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repto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k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Step II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nti inflammator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spirin,steroid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Step II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retman komplik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Step I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undarn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cij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reven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cija ponovljenih atak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533520" y="0"/>
            <a:ext cx="8153280" cy="608076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Times New Roman (Arabic)"/>
              </a:rPr>
              <a:t>STEP I: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 (Arabic)"/>
              </a:rPr>
              <a:t> Primar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Times New Roman (Arabic)"/>
              </a:rPr>
              <a:t>n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 (Arabic)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Times New Roman (Arabic)"/>
              </a:rPr>
              <a:t>p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 (Arabic)"/>
              </a:rPr>
              <a:t>reven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Times New Roman (Arabic)"/>
              </a:rPr>
              <a:t>cij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 (Arabic)"/>
              </a:rPr>
              <a:t> R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Times New Roman (Arabic)"/>
              </a:rPr>
              <a:t>eumatske  groznic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 (Arabic)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 (Arabic)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 (Arabic)"/>
              </a:rPr>
              <a:t>(Treatm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  <a:ea typeface="Times New Roman (Arabic)"/>
              </a:rPr>
              <a:t>a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 (Arabic)"/>
              </a:rPr>
              <a:t> Strepto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  <a:ea typeface="Times New Roman (Arabic)"/>
              </a:rPr>
              <a:t>koknog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 (Arabic)"/>
              </a:rPr>
              <a:t> Tonsillopharyngitis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  <a:ea typeface="Times New Roman (Arabic)"/>
              </a:rPr>
              <a:t>-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 (Arabic)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66"/>
                </a:solidFill>
                <a:latin typeface="Arial"/>
                <a:ea typeface="Times New Roman (Arabic)"/>
              </a:rPr>
              <a:t>               </a:t>
            </a:r>
            <a:r>
              <a:rPr b="1" lang="sr-Latn-CS" sz="1800" spc="-1" strike="noStrike">
                <a:solidFill>
                  <a:srgbClr val="ff0066"/>
                </a:solidFill>
                <a:latin typeface="Arial"/>
                <a:ea typeface="Times New Roman (Arabic)"/>
              </a:rPr>
              <a:t>Lek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Times New Roman (Arabic)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Times New Roman (Arabic)"/>
              </a:rPr>
              <a:t>                              Do</a:t>
            </a:r>
            <a:r>
              <a:rPr b="1" lang="sr-Latn-CS" sz="1800" spc="-1" strike="noStrike">
                <a:solidFill>
                  <a:srgbClr val="ff0066"/>
                </a:solidFill>
                <a:latin typeface="Arial"/>
                <a:ea typeface="Times New Roman (Arabic)"/>
              </a:rPr>
              <a:t>z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Times New Roman (Arabic)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icillin 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Dec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250 mg 2-3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uta dnevn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Oral            10 d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henoxymethyl penicillin)  Adolescent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i odrasl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0 mg 2-3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uta dnevn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I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zatin penicilli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0 000 U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za pacijen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Intramuscular        On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 k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200 000 U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za pacijen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27 kg      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	</a:t>
            </a:r>
            <a:r>
              <a:rPr b="1" lang="sr-Latn-CS" sz="1800" spc="-1" strike="noStrike">
                <a:solidFill>
                  <a:srgbClr val="ffcc00"/>
                </a:solidFill>
                <a:latin typeface="Arial"/>
                <a:ea typeface="Times New Roman (Arabic)"/>
              </a:rPr>
              <a:t>I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  <a:ea typeface="Times New Roman (Arabic)"/>
              </a:rPr>
              <a:t>Za osobe alergične n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 (Arabic)"/>
              </a:rPr>
              <a:t>penicill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Erythromyci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 20-40 mg/kg/d 2-4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x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Or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 10 d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 (maximum 1 g/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Clarithromycin                     7,5 mg/kg/ na 12h                        Oral            5-10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Azithromycin                       12mg/kg/d                                    Oral              5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Cephalexin                          25-50 mg/kg/d  4x                        Oral             10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910520" y="6172200"/>
            <a:ext cx="5214600" cy="36828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63416"/>
                </a:solidFill>
                <a:latin typeface="Arial"/>
                <a:ea typeface="Times New Roman (Arabic)"/>
              </a:rPr>
              <a:t>Recommendations of American Heart Assoc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e3e3ff"/>
                </a:solidFill>
                <a:latin typeface="Arial"/>
              </a:rPr>
              <a:t>TERAPIJA- STREPTOKOKNI FARINGITI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onovljeni faringitis*-10 dana ponovo isti antibiot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lternativni lekovi-cefalosporini, amoxicillin klavulonat, eritromycin ili drugi makroli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ko ne pomogne –Clindamycin 20 mg/kg/d PO u 3 doze 10 /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mpicilin i amoxicilin podjednako dob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enicilin G i prokain penicilin zajed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lergični (eritromicin ili I generacija cefalospori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zitromicin 5 d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ARTHRITIS -LEČENJ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 antiinflamatorni lek je ASPIR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80 mg/kg/d u 4-5 doz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hepatotoksič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(20-30 ml/d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na doza 2 nedelje-smanjivati 3-4 nedel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gu i drugi antiinflamatorni lekovi –ista efikas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žanje-dok traju :t, otok i 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Bipenicillin 10 d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Extencillin 1x mesečno (5 godi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Carditis bez uvećanja src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ežanje 1-3 mese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enicillin 10 dana i Extencillin 5 god 1x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spir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Carditis sa uvećanim src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ežanje 4 mese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enicillin i Extencillin kao kod prethodnog obl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dnison 60-120 mg/24h podeljeno u 4 do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e3e3ff"/>
                </a:solidFill>
                <a:latin typeface="Arial"/>
              </a:rPr>
              <a:t>Akutni carditis sa uvećanim srcem i srčanom insuficijencijo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ež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enici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dn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ardioton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iuret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CE inhibito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CARDITIS -LEČENJ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Miro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teroidi –kod izr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ž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enog karditis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Inicijalna doza 2mg/kg/d (max 60 mg/d) i toku prve 3 nedelje i posle smanjivati za 20% svake nedelje-bez dodavanja salicil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Neki daju iv Methylprednisolon kod izr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ž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enih kard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Hirurška intervencija kod refrakerne 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Imunoglobulini-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HOREA-LEČENJ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irovanje-kod teških obl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edativi-fenobarbiton, diazepam, hlorpromaz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alopertidol, valpro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dnis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(200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457200" y="228600"/>
          <a:ext cx="8229600" cy="6218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KUNDARNA PROFILAKS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enzatin penicillin</a:t>
                      </a: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vakih 21 d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ijenti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</a:t>
                      </a: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7 kg 600 000  U i/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ijenti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</a:t>
                      </a: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7 kg 1200 000 U i/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Oralni Penicillin</a:t>
                      </a: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 mg dva puta dnev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Kod alergije</a:t>
                      </a: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ythromyc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 mg dva puta dnev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rajanj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z kardita do 18. godine (minimum 5 g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 karditom do 35 godine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ž</a:t>
                      </a: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vota ili do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ž</a:t>
                      </a: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vot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VO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ramatičan pad RG i  RHD u razvijenim zemljama- incidencija 0,5/100 000 školske dece/godiš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Još uvek značajan morbiditet i mortalitet u zemljama u razvoju- 100-200/100 000 /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12 miliona ljudi boluje od RG u sve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40 000 umire od RH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2 miliona sada zahteva hiruršku intervencij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1 milion će trebati intervenciju u narednih 5-12 god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SHO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novljeni napadi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čes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ju istu klini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čku sliku kao prethodn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Bolju prognozu imaju veća deca bez kard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Horea i artritis  imaju najčešće najbolju prognozu-potpun oporav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RHD mogu se dijagnostikovati i godinu dana nakon inicijalnog ataka horee-sek. profilak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Karditis-od potpunog oporavka do smrti zbog 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990720" y="0"/>
          <a:ext cx="7391160" cy="692136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KTIVNI ENDOKARDITIS-PROFILAK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ZA SVE PACIJENTE LEK SE DAJE 1 SAT PRE PROCEDU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Oralno Amoxicillin 50 mg/kg ,m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ž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 i/m ili i/v. Odrasli 2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Kod alergije na Amoxicillin i Ampicill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no  Clindamycin 20 mg/kg. Odrasli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 mg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no Cephelexin ili Cefadroxil 50 mg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kg. Odrasli :2,0 g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no Azithromycin ili Claritromycin 15 mg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g. Odrasli : 500m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i         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Clindamycin  20 mg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g. Odrasli : 600 m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Cefazolin 2,5 mg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g. Odrasli : 1,0 g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1" lang="sr-Latn-CS" sz="12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Kod gastrointestinalne ili genitourinarne hirurgije ili zahvata , treba dat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  </a:t>
                      </a:r>
                      <a:r>
                        <a:rPr b="1" lang="sr-Latn-CS" sz="12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slede</a:t>
                      </a:r>
                      <a:r>
                        <a:rPr b="1" lang="en-US" sz="1200" spc="-1" strike="noStrike">
                          <a:solidFill>
                            <a:srgbClr val="6600cc"/>
                          </a:solidFill>
                          <a:latin typeface="Arial"/>
                          <a:ea typeface="Arial"/>
                        </a:rPr>
                        <a:t>ć</a:t>
                      </a:r>
                      <a:r>
                        <a:rPr b="1" lang="sr-Latn-CS" sz="12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e lekove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: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oko rizične procedure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Ampicillin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moxicillin 50 mg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Gentamycin 1,5 mg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g 30 mi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 procedure i 6 sati nakon procedu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oko rizične procedure kod pacijenata sa alergijom na Amoxicillin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Vancomycin 20 mg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g( Odrasli :1 g) unutar 1-2 sat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V Gentamycin 1,5  mg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g 30 min pre procedur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ena kod srednje rizičnih procedurai 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o IV ili IM Amoxicillin 50 mg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g ( Odrasli : 1 gm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edmnje rizčne intervencije  kod pacijenata sa alergijom na Amoxicillin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comycin 20 mg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g ( Odrasli: 1 g) u toku 1- 2 s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NOV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ema dovoljno argumenata za reviziju Jonesovih revidiranih kriterijuma iz 1992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ema zlatnog standarda za RG –nema specifičnog lab. tes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oppler ehokardiografija veoma značajna ali nije u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 u minor ili major kriterij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onoartritis u odsustvu drugih Jonesovih kriterijuma nije 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KADA LEČITI KLICONOŠE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ak 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odi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 anamn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o 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java faringita u zajedn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d tonzilektomije i kliconošt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iše epizoda faringitisa u porodici uprkos datoj terapi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EPIDEMIOLOGI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LASIČNA EPIDEMIOLOŠKA TRIJ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2666880" y="2362320"/>
            <a:ext cx="2438640" cy="3124080"/>
          </a:xfrm>
          <a:prstGeom prst="flowChartMerg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048120" y="5791320"/>
            <a:ext cx="1650960" cy="459720"/>
          </a:xfrm>
          <a:prstGeom prst="rect">
            <a:avLst/>
          </a:prstGeom>
          <a:solidFill>
            <a:srgbClr val="e3e3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OMAĆ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645160" y="2746440"/>
            <a:ext cx="1585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OKOL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150200" y="2819520"/>
            <a:ext cx="12459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ETIOLOŠKI ČINILA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fekci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BH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isključivo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u farink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e daju svi sojevi 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p.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faring 20-35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lska de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fekcija je asimptomatska kod ½ pacijenata (AS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gbs3"/>
          <p:cNvPicPr/>
          <p:nvPr/>
        </p:nvPicPr>
        <p:blipFill>
          <a:blip r:embed="rId1"/>
          <a:stretch/>
        </p:blipFill>
        <p:spPr>
          <a:xfrm>
            <a:off x="380880" y="380880"/>
            <a:ext cx="6248520" cy="57294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140" name="Text Box 3"/>
          <p:cNvSpPr/>
          <p:nvPr/>
        </p:nvSpPr>
        <p:spPr>
          <a:xfrm>
            <a:off x="380880" y="380880"/>
            <a:ext cx="6248520" cy="45972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Dijagram strukture GAB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419720" y="1371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  <a:ea typeface="Times New Roman (Arabic)"/>
              </a:rPr>
              <a:t>Kaps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343400" y="1981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  <a:ea typeface="Times New Roman (Arabic)"/>
              </a:rPr>
              <a:t> </a:t>
            </a:r>
            <a:r>
              <a:rPr b="1" lang="sr-Latn-CS" sz="1800" spc="-1" strike="noStrike">
                <a:solidFill>
                  <a:srgbClr val="463416"/>
                </a:solidFill>
                <a:latin typeface="Arial"/>
                <a:ea typeface="Times New Roman (Arabic)"/>
              </a:rPr>
              <a:t>Ćelijski z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267080" y="2438280"/>
            <a:ext cx="2210040" cy="642600"/>
          </a:xfrm>
          <a:prstGeom prst="rect">
            <a:avLst/>
          </a:prstGeom>
          <a:noFill/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ff00"/>
                </a:solidFill>
                <a:latin typeface="Arial"/>
                <a:ea typeface="Times New Roman (Arabic)"/>
              </a:rPr>
              <a:t>  </a:t>
            </a:r>
            <a:r>
              <a:rPr b="1" lang="sl-SI" sz="1800" spc="-1" strike="noStrike">
                <a:solidFill>
                  <a:srgbClr val="6600cc"/>
                </a:solidFill>
                <a:latin typeface="Arial"/>
                <a:ea typeface="Times New Roman (Arabic)"/>
              </a:rPr>
              <a:t>Proteinski    antigeni M pro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4572000" y="31240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343400" y="3124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  <a:ea typeface="Times New Roman (Arabic)"/>
              </a:rPr>
              <a:t> </a:t>
            </a:r>
            <a:r>
              <a:rPr b="1" lang="sr-Latn-CS" sz="1800" spc="-1" strike="noStrike">
                <a:solidFill>
                  <a:srgbClr val="463416"/>
                </a:solidFill>
                <a:latin typeface="Arial"/>
                <a:ea typeface="Times New Roman (Arabic)"/>
              </a:rPr>
              <a:t>Karbohidratna gru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419720" y="3657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  <a:ea typeface="Times New Roman (Arabic)"/>
              </a:rPr>
              <a:t>Peptidoglyc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419720" y="42670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4419720" y="4191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  <a:ea typeface="Times New Roman (Arabic)"/>
              </a:rPr>
              <a:t>Cyto.membra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4419720" y="4876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  <a:ea typeface="Times New Roman (Arabic)"/>
              </a:rPr>
              <a:t>Cytopla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380880" y="533412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380880" y="5334120"/>
            <a:ext cx="6248520" cy="180036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imes New Roman"/>
                <a:ea typeface="Times New Roman (Arabic)"/>
              </a:rPr>
              <a:t>…</a:t>
            </a:r>
            <a:r>
              <a:rPr b="0" lang="sl-SI" sz="2800" spc="-1" strike="noStrike">
                <a:solidFill>
                  <a:srgbClr val="3399ff"/>
                </a:solidFill>
                <a:latin typeface="Times New Roman"/>
                <a:ea typeface="Times New Roman (Arabic)"/>
              </a:rPr>
              <a:t>muugccmmmmmssssmukopolisaharidn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  <a:ea typeface="Times New Roman (Arabic)"/>
              </a:rPr>
              <a:t>……………………</a:t>
            </a:r>
            <a:r>
              <a:rPr b="0" lang="sl-SI" sz="2800" spc="-1" strike="noStrike">
                <a:solidFill>
                  <a:srgbClr val="3399ff"/>
                </a:solidFill>
                <a:latin typeface="Times New Roman"/>
                <a:ea typeface="Times New Roman (Arabic)"/>
              </a:rPr>
              <a:t>mu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  <a:ea typeface="Times New Roman (Arabic)"/>
              </a:rPr>
              <a:t>…………………………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6629400" y="1523880"/>
            <a:ext cx="228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66ff33"/>
                </a:solidFill>
                <a:latin typeface="Times New Roman"/>
                <a:ea typeface="Times New Roman (Arabic)"/>
              </a:rPr>
              <a:t>Reumatogeni sojevi su: inkapsulirani, bogati M proteinima i otporni na fagocitozu. Njihova At ukršteno reaguju sa tkivima sr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 (Arabic)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691848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DOMAĆ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5-1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9)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odin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, odrasli - 2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ko pre 3. godine (5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evojčic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dečac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 ili = (ž&gt;HM i lo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šija prognoz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DOMAĆ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ENTSKA PREDISPOZI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Češće u nekim porodicama, češće kod jednojajnih blizana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enetski marker -*klasa II HLA halotipova-B-ćelijski aloantigen (D8/1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ema komercijalnog testa za taj aloantigen-skup a mala senz. i spe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7:06:15Z</dcterms:created>
  <dc:creator>WinXP</dc:creator>
  <dc:description/>
  <dc:language>en-US</dc:language>
  <cp:lastModifiedBy>Jasmina Knezevic</cp:lastModifiedBy>
  <dcterms:modified xsi:type="dcterms:W3CDTF">2016-05-30T07:23:19Z</dcterms:modified>
  <cp:revision>76</cp:revision>
  <dc:subject/>
  <dc:title>REUMATSKA GRZNICA</dc:title>
</cp:coreProperties>
</file>